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438-DEE3-4B47-A08E-CCE70A0C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A7F-FD5B-47CC-87FB-AC9A0ED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291-F4EF-4778-8684-D82F9905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B57-5D73-4B09-A324-DD5EE114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76BB-141B-4411-88E6-7A7A9FDC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920F-2904-4323-9CD5-F0309BD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54C6-CFAC-4F30-8F1E-89EB04A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A32-BF04-4CC8-AFAF-0ABD8EE0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E1D3-921E-4B86-81FF-2FB872D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0C1-D78D-4CD1-A0D1-A18CDF2D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3C1-3E59-45E2-918C-5825BF3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F72-C4A8-4129-8B9B-1201643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DED1-6311-4571-9611-C5F6F3B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EB2D-1FC9-4DBC-A2E5-0AAD9FC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A00C-8F8D-427A-B011-CDED522F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7DA-FCC0-4C4F-ADB0-D2EC5658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BB37-3C6D-4CA2-8FAC-DC623AEB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2F2-3CB5-47D5-9035-B4F2E05A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3B3-A4EE-4FE3-8062-0442FF9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A1B-3738-41E4-BC96-09BF7A5F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2FD-203B-47AC-9A59-8B2B1210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2EE-D01E-424A-80BA-5F0C379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29B-54E8-41A3-BA15-56F01D6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32BC-B9B6-4770-96EF-618D9FF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098-8986-4B7C-9A88-F51A6A626293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ثلاثاء 28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10E7-0101-475E-BE17-8FDB23F4B997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922-78F3-48AF-8087-B1CFCE8203F8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ثلاثاء 28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2FC-FED4-4867-914E-2F2233A2402E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531-75C6-48F1-8188-F124CD62C0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E2B2B8-9ECE-4CB3-84AB-ADD0E8985D2D}" type="datetime3">
              <a:rPr lang="en-US"/>
              <a:t>July 28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FCD6-ACC9-405F-B42A-7FB59F8F40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5CAFF-B53A-4961-A165-6889A168B6B0}" type="datetime3">
              <a:rPr lang="en-US"/>
              <a:t>July 28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6FA-49CA-4437-9F3D-6563B8FB0E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CF3EC-B6C1-40CC-B5AC-78A47AE766FA}" type="datetime3">
              <a:rPr lang="en-US"/>
              <a:t>July 28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9AA-F6A7-40B3-8CC3-C52FF89C52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92EC1-1768-42AE-B6F4-D7EA1F3BE5CC}" type="datetime3">
              <a:rPr lang="en-US"/>
              <a:t>July 28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278-72BB-45C3-9080-6D8618E44B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35570-579B-4ED5-A121-75AA3AEAC748}" type="datetime3">
              <a:rPr lang="en-US"/>
              <a:t>July 28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33A-0F1E-4514-A8EF-1B41711164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AF796-486F-459A-86C1-9D729A42115E}" type="datetime3">
              <a:rPr lang="en-US"/>
              <a:t>July 28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4AC-4508-46A7-84CC-F3ED03E14E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B0EB-465B-4284-8A9F-41130288F4E9}" type="datetime3">
              <a:rPr lang="en-US"/>
              <a:t>July 28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C91-E9E9-4838-B22C-D4889D472E0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804A4-1B42-40F5-B482-735669EF701F}" type="datetime3">
              <a:rPr lang="en-US"/>
              <a:t>July 28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